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D3D-0D51-4CF4-87E6-913F535C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105-0058-46E3-89AE-969938E5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607-1457-4467-9904-1A906140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722-392B-4602-8101-B699792E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A870-8848-4221-99C0-CCF3C853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C5E0-DACD-44C6-97CF-52BD49CC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9E09-B1B8-4FC2-9C30-978E8FE9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37BE-5CC2-4F34-843D-81DDA941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FBDC-B481-4EF6-A9F3-D85A34A9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3460-6739-463D-BA6E-6A9FE902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5248-078C-4D6A-AEBB-8A09BA34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B436-8BB9-4180-94F4-4F0FA616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7E2F-3E17-43C8-BD21-A2A7EC79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4419-F505-4DDC-B8E8-ADD4315C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F7DB-ED72-4804-BEE6-A8921D9D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683E-A5E9-4BB5-8F37-36A095D9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EAF4-686D-402C-BED2-FE7838B2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089-2850-4B80-B730-2874257D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0731-CEC1-4650-8327-4A2EBCB1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8F2-EE7C-4BAA-9F34-CB3B4A2B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A52-FB18-4F47-A21E-E20CA500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D02-8CA6-4B01-B06D-4DA268C7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5E3-8DE3-40FB-AFCA-04BA9AB0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0E0-899B-4F0F-BCDF-CE04C9CB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6A97-4C5D-4DA7-930A-BA8BBEAA7EF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5263-694A-407E-8ACE-CDB00C345D9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747720"/>
            <a:ext cx="914400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La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1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.. bullying viene del inglés. Se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.. de un acoso sistemático que se produce por parte de uno o varios acosadores a una o varias víctimas. Los centros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3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 son lugares propicios para ello y suele pasar desapercibido por parte del profesorado, en patios, servicios,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4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.. de educación física, a la salida del centro o en el transporte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5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.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Los motivos del bullying son numerosos, aunque las victimas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6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. ser aquellas que presenten algún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7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. característico que las haga aparecer como “diferentes” ante los ojos de los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8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.. 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Hay que estar alerta ante lo que les pasa a los niños, observar los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9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.. de conducta que tienen, si no quieren salir o se pasan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10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. tiempo solos. Es importante saber como se llevan con sus compañeros y tener presente que las personas que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11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. esta situación llegan a tener tan baja autoestima que se avergüenzan de si mismos. El bullying puede darse entre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12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 edad. Se dan casos en párvulos, pero suele ser mucho más grave en la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13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.. Es un fenómeno que afecta a todas las clases sociales y se da por igual en niños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14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.. en niñas.</a:t>
            </a:r>
            <a:r>
              <a:rPr b="0" lang="en-GB" sz="2400" spc="-1" strike="noStrike">
                <a:solidFill>
                  <a:srgbClr val="ffff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52280"/>
            <a:ext cx="8534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l bullying o el acoso escola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95880"/>
            <a:ext cx="9144000" cy="6858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acosadores / escolares / rasgo / adolescencia / sufren / vestuarios / suelen /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palabra / como / cualquier / cambios / trata / demasiado / escol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14:15:33Z</dcterms:created>
  <dc:creator>Francisco</dc:creator>
  <dc:description/>
  <dc:language>en-US</dc:language>
  <cp:lastModifiedBy>Francisco</cp:lastModifiedBy>
  <dcterms:modified xsi:type="dcterms:W3CDTF">2005-07-22T15:00:35Z</dcterms:modified>
  <cp:revision>1</cp:revision>
  <dc:subject/>
  <dc:title>PowerPoint Presentation</dc:title>
</cp:coreProperties>
</file>